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8720" y="753840"/>
            <a:ext cx="495468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4660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25.11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660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8D1E3-C518-467E-AEE2-53BBF653C53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9ABF7-D8A5-4181-B5F4-DDB7333146E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04F1B-2164-4F8A-940A-97A951500C3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BAE70-AB4D-4885-93B6-7C187F8A180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00FC1-AFF9-4494-AB49-E6CD8935714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0F3D5-2EE7-41F9-8E3D-C32479E8A36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B2124-82D4-4FCD-AD22-F9CCF9010D9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95F72-8E45-4ECD-85CC-A77C8894484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B4F08-AFC9-4EB4-AAD6-2A346E2E89C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29A6B-580D-4AF7-BA3E-0D95EAB1EA1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59121-F4F0-4F74-9AD6-F2101AE95E0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66726-45D9-4123-8B71-29E97308288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6CB65-E9E3-4B4A-8F14-4A3B9608121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CDCFC-9D5D-44A1-BE22-D7DC8638331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C9800-A82A-484B-B6B4-B1901C20238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3B150-984D-4413-BCF6-7F107174AD4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BCAF4-D563-4469-B8C5-A15EDD72B59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214-6C4E-4B77-9E03-2BE7A958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FB3-4FC8-4255-9CEA-CA31D7E0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C680-86D5-4F5B-B6B8-97FF25EA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69C-9D60-43E6-8388-0CD74E86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ABA-2DA3-4F91-8B4D-94FEDA37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F7CA-FD8B-48C9-84C4-7E441809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E2C-4BC9-4457-936A-4AC6E6D6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48A-AD8E-4C00-966D-873EA436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298-C239-406B-8CC1-07831BA8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E8E-8F04-4BBE-804D-D500FFC7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3F45-E366-4BDF-808D-D3A0A0F3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E66-DA91-4996-84C1-09EFEC89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7A076B-C385-4C3A-B10E-5973C114C6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cs-CZ" sz="6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2279160"/>
            <a:ext cx="78868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Arial"/>
              </a:rPr>
              <a:t>Helena Matas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také bude zajímat orgány  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2136240"/>
            <a:ext cx="7886880" cy="492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má příjemce zavedeny vhodné a přiměřené systémy pro dokladování projektových výdajů a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je vedena řádná archivace dokumentů souvisejících s projektem realizovaným               za podpory OP V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řípadě, že je v projektu zahrnut partner, proběhnou i u něho stejné kontroly jako u příjemce a dále u něj ověří plnění partnerství stanovené    ve schváleném projektu a uzavřeném smluvním vztahu mezi příjemcem a partne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 udržitelnost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8143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é jsou stanoveny lhůty pro archivování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82640" y="1636200"/>
            <a:ext cx="788688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pro účely kontroly ze strany Evropské komise, Evropského účetního dvora, Nejvyššího kontrolního úřadu a dalších oprávněných osob archivova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 konce roku 2025,                          pokud český právní systém nestanovuje           lhůtu delš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30 let mzdové listy nebo účetní záznamy, které slouží pro důchodové zabezpe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artační znak bude v rozmezí – A/V/S /17 nebo 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= archiv, V = výběr,S = stoupa/skar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 = délka uložení dokumentu před dalším zpracováním (počíná běžet 1. dnem následujícího roku, ve kterém byla vyřízena nebo pozbyla výz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82640" y="35100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82640" y="1708200"/>
            <a:ext cx="807264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 dokumentů a dokladů, které je potřeba uchovávat, se musí řídit zejména hlediskem prokazatelnosti, tzn.,  že je zapotřebí uchovávat všechny dokumenty a doklady způsobilé jednoznačně prokázat kontrolujícímu orgánu, že poskytnuté prostředky byly využity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 souladu s účelem a prav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zhodnutí o poskytnutí dotace je pro příjemce stanovena povinnost uchovávat dokumenty a doklady vztahující se k projektům odděleně, se zvláštní lhůtou a zvláštním režimem práce uvedené v Obecném n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onechá originály dokladů jako součást svého účetnictví, daňové evidence a ostatních evidencí a při jejich uchovávání se řídí českými právními předpisy a nařízeními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82640" y="1922400"/>
            <a:ext cx="7886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lady a záznamy o realiz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záznamy a dokumenty týkající se výdajů a auditů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originály dokladů týkajících se implementace a čerpání z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dělené účetnictví s originálními účetními doklady, které prokazují uskutečnění uznatelných výdajů nebo na základě kterých se uznatelné výdaje reali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korespondenci s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ávy o výsledcích zadávacích řízení (výběr dodavatele) včetně související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pie zkontrolované, autorizované žádosti příjemce     o platbu, včetně příl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ginály zápisů z provedených kontrol a potvr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 schválení a příkaz k propla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ých výdajů projektu (podle finančních to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další dokumentaci vzniklou při implementaci z úrovně příje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egislativní ráme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82640" y="1564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499/2004 Sb.,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schválena novela č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9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KO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 dne 28. května 2009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terým se mění zákon č. 499/2004 Sb., o archivnictví a spisové službě a o změně některých zákonů, ve znění pozdějších předpisů, a další související zákony (účinnost od 1. 7.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6/2004 Sb., o podrobnostech výkonu spisové služby, v platném z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5/2004 Sb., kterou se provádějí některá stanovení zákona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82640" y="1922040"/>
            <a:ext cx="7886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6600" spc="-1" strike="noStrike">
                <a:solidFill>
                  <a:srgbClr val="f3912c"/>
                </a:solidFill>
                <a:latin typeface="Arial"/>
              </a:rPr>
              <a:t>Děkuji za pozornos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lena.matasova@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.: +420 234 814 2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bil: +420 602 545 7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se v prezentaci dozví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k proces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chovávání dokumentů a dokladů vzniklých při implementaci pomoci                z Evropského sociálního fondu a státního rozpočtu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k tvorbě, vedení a uklád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de o informace charakteru doporučujícího,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vaznosti na vytvoření vlastních interních předpisů, přičemž tyto nesmí být v rozporu s platnou Příručkou pro příjemce a Rozhodnutím o poskytnutí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povinen archivova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chny subjekty zapojené                    do implementační struktury Operačního programu Vzdělávání pro konkurenceschopnost  (OP V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jem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subjekt realizující projekt       z OP V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a co je zodpovědný příjem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ťuje archivaci písemností a dokumentů spojených s projek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azuje i dodavatele, aby umožnil všem subjektům oprávněným k výkonu kontroly provést kontrolu dokladů souvisejících s plněním zakázky pro projekt, a to po dobu danou právními předpisy ČR k jejich archiva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avat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osoba povinná spolupůsobit dle zákona č. 563/1991 Sb., o účetnictví a zákona č. 235/2004 Sb., o dani z přidané hodnoty, je dále povinná uchovávat doklady spojené s dodávkou a spolupůsobit při kontrole dle zákona č. 320/2001 Sb., o finanční kontrole bez omezení, pokud k tomu bude vyzv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archivace dokumentů a d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ložení těch dokumentů,  jejichž oběh byl ukončen, zkontrolován   a vyhodnocen, pro možnost jejich opětovného použití a rychlého přístupu   k n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O doporučuje všem příjemcům, aby stanovili jednu osobu zodpovědnou za vedení a spravování „předběžného archivu“ realizovaného projektu dle těchto archivačních pravidel – tato odpovědnost nemusí být její jediná, vedení a spravování archivu může být její vedlejší čin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9720" y="27936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á jsou základní pravidla archiva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říjemce a partnera/ů, v případě že projekt má partnera/y, jsou uloženy všechny originály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chování a zabezpečení před ztrá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účetní dokumenty a smluvní písemnosti musí být uloženy na jednom místě, z důvodu zpřístupnění jednotlivých dokladů v případě k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opisy některých dokumentů, případně ověřené fotokopie jsou uloženy u ŘO a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1000" y="136440"/>
            <a:ext cx="78865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i použití IT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e archivací mysl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2640" y="1351080"/>
            <a:ext cx="78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kopií dokumentů a jejich ukládání na různá místa disku PC nebo na další nosiče dat (CD-R, DVD, příp. další), a to z důvodů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škození pevných disků počítače, případně jiné poruch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izení techniky, případně jejího zniče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ho vymaz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 aktualizace dat 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1000" y="707760"/>
            <a:ext cx="78865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musíte uděl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493640"/>
            <a:ext cx="788688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umenty v digitální podobě určené ke skartačnímu řízení musí být opatřeny metadaty podle národního standardu pro elektronické systémy spisové služby – není-li tomu tak, převedou se po uzavření spisu          do analogové podoby (§ 69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data popisující souvislosti, obsah a strukturu dokumentů a jejich správu v průběhu č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ě (min.1x za dva roky) kontrolovat stav médií k zálohování a zálohovacích mecha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archivovaní a zálohování vždy porovnat  zálohovaná data s originálem – ver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stit trvalost uložených dat s ohledem na použitá média v průběhu stanovené archivační d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orgánem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2136600"/>
            <a:ext cx="788688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ředníci nebo pověření zástupci Komise, Evropské investiční banky, Evropského účetního dvora, Evropského úřadu pro potírání podvodného jednání (OLA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ávislé auditní org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Platebního a certifikačního orgánu (P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ŘO – Sekce řízení Operačních programů EU (O 41, 42, 46), pracovníci věcných útvarů přizvaní na kontrolu pracovníky Odboru CERA, Odboru řízení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 VK a Odboru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ní orgány Ř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yšší kontrolní úřad (NKÚ), Ministerstvo financí ČR a finanční úř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adně další orgány s pověřením ke kontrole (FÚ, ÚHOS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23T07:57:59Z</dcterms:modified>
  <cp:revision>159</cp:revision>
  <dc:subject/>
  <dc:title>Snímek 1</dc:title>
</cp:coreProperties>
</file>